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 BWDSB model here – also refer to EduGAINS  board supports – Adobe Presenters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occurs over time (5 months for us with fractions) and is modified to align with the teachers’ needs and fi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xt from TMERC Collaborative Action Research Digital Paper (www.tmerc.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NAER_Trent_Benefits of Professional Learning (1:45 min)  - benefits of same lesson in different classrooms and also focus on one content area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cond video Slow it down (3:25 – 5:15 – play this by 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key characteristics of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ly not classroom 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how to overcome some of the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really collaborati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: Ideally we want our Professional Development opportunities to be powerful enough that they make us think, question, want to learn more and change our prac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that this Collaborative Research Project was that kind of P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ADB7-A1AC-4DD2-A1C6-E94EC71E65F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0E3C-E6E8-4FF6-989C-73496BEDF1B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FB0-F802-4916-B425-6D78CF3320A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y Bruce…Across multiple studies, there is clear evidence that sustained, iterative, teacher-directed and collaborative models of professional learning support significant gains in teacher effica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D996-0799-4FCD-9834-B75EA98F8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BAAE-61F3-4C7A-B900-DAFAC0856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7508-5B2A-4D9D-A0C8-E81007A7B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83FE-D540-4A66-B290-17D9157CF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BD20-B7F2-4AA9-8E09-71F90122E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DDBE-0AA2-4F45-8139-AB5913E76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393E-7A86-4EE8-AD42-D80A3BB1B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AAAE-980F-490B-A030-1E27C5F50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AFFD-B547-4058-A223-3F7DFA4D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4EB9-2D81-4CF8-8681-89B9A5D7B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8F76-D85A-496B-883A-2186279A4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50CB-1F14-423B-813B-68938320F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3BFF-F7BE-4C92-8504-3FC5BF1BA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essonresearch.net/DeeperLookatLS.pdf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1EBB-AE30-4678-9672-F267C5E716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490d8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est thinking at this point and time about professional learn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2666880" y="762120"/>
            <a:ext cx="40388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urrent Professional Learning Mode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inars/on-lin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IL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ition PL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7960" y="14479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monstration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aborative Assessment/Resourc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FCF0-D6F2-4350-BCCC-E5CB22074F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iagram up Inquiry (and research)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llaborative Action Resear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A5A8-3C42-4EFC-961C-30ABFB0134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Digital Papers - TMERC.ca - Google Chrome"/>
          <p:cNvPicPr/>
          <p:nvPr/>
        </p:nvPicPr>
        <p:blipFill>
          <a:blip r:embed="rId1"/>
          <a:srcRect l="20343" t="7778" r="20343" b="-509"/>
          <a:stretch/>
        </p:blipFill>
        <p:spPr>
          <a:xfrm>
            <a:off x="2819520" y="2057400"/>
            <a:ext cx="4203720" cy="3562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57200" y="1314360"/>
            <a:ext cx="8229600" cy="375156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rocess of action research allows educator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lect on an issue or a problem relevant to their teach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determine what research question(s) they are trying to answ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an intervention designed to address the probl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collect and analyse data to determine if their intervention is having an effect, a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o implement changes in their practice based on their f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6400800" y="5006880"/>
            <a:ext cx="2286000" cy="459720"/>
          </a:xfrm>
          <a:prstGeom prst="rect">
            <a:avLst/>
          </a:prstGeom>
          <a:solidFill>
            <a:srgbClr val="4597a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www.tmerc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odels: Looks like / Doesn’t look like 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AT WE LEARNED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was the impact for teachers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27" name="KNAER_Trent_Jan11_2012_S06_Benefits of Professional Learning_21April12.mov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7E5-700E-4113-A786-0A020E51A5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Avoiding Pitfalls of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budget for release time = no p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no planning needed just show up (carefully plan content, strategies, dynamics and trajectori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drop in-between meeting/session 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PLC is separate from CIL-M “doing CIL-M” from Inqui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yth: Growing too quick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o is a knowledgeable other? How do they facilitate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ach is a coach (no special training, and don’t need support themselv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INTEGRATING THIS KNOWLEDGE (CONSOLIDATE)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EE39-1288-4314-BB6E-A5D711EA7F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opportunities can you create for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lowing it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staining focus on a precise content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ilding purposeful professional learning networks with resear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pporting teachers as co-lear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975A-986B-410B-8D91-C4672BF351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Questions connected to key characteristic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713B-691A-4AB1-8921-5699B7A49A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Importan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(empowerment, ownership and constructive urge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learning (close attention to student work, listening and notic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ility (will and capacity to 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Let’s Analyse Math CAMPP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key characteristics of professional 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it stron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it weak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be revi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Compelling Why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forms stop short at the classroom door; all available evidence suggests that classroom practice has changed little in the past 100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wis, Perry &amp; Hurd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Deeper Look at Lesson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ducational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Five 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9000"/>
          </a:bodyPr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five characteristics should be considered by anyone charged with, or seeking to provide professional learning experiences for Ontario’s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) Coh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) Attentive to Adult Learning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) Goal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 Evidence-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716360" y="597204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ommendations to the Partnership Table on Teacher Professional Learning (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haracteristics of Effective Professional Learn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840" y="1523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ross multiple studies, there is clear evidence that sustained, iterative, teacher-directed and collaborative models of professional learning support significant gains in teacher effic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Dr. Cathy Bruc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Arial"/>
              </a:rPr>
              <a:t>Science &amp; Technology Education Group (20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MATH KNOWLEDGE FOR TEACH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86E-DD31-4034-AA60-F6252A4BAF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Impact of MKT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eveloping MK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294920"/>
            <a:ext cx="8229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2b5ca9"/>
                </a:solidFill>
                <a:latin typeface="Arial"/>
              </a:rPr>
              <a:t>WHY THIS IS IMPORTANT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7-13T01:36:38Z</dcterms:modified>
  <cp:revision>16</cp:revision>
  <dc:subject/>
  <dc:title>&lt;Title&gt;</dc:title>
</cp:coreProperties>
</file>